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64301"/>
        <c:axId val="66533078"/>
      </c:barChart>
      <c:catAx>
        <c:axId val="61464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33078"/>
        <c:crosses val="autoZero"/>
        <c:auto val="1"/>
        <c:lblAlgn val="ctr"/>
        <c:lblOffset val="100"/>
        <c:noMultiLvlLbl val="0"/>
      </c:catAx>
      <c:valAx>
        <c:axId val="66533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4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16A-8F9E-4DF7-9F6F-7F4F33FE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729-F59B-46B3-B170-EFC812F9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43A-99BE-404B-A565-FCA238A2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99F-0317-4B8A-8BBB-6C12179F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854-EA2E-4773-AF04-256DA24B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622-C8AC-4FC2-BD2C-DC4C71AC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FAD-727B-4232-B730-7DC1DAC3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12E-50A8-4AE6-B90E-27F3DA3D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1CB-EA24-4014-BCD7-34BE0FE3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3FF-8BBE-4E29-8D29-AE1D05B2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1CD-A664-4A15-B5FE-86A25606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0FB-2F26-41C7-8D7C-66DBEA2B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6F38C-E0B3-4576-B864-92CA0C8828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