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7875-DBC5-430E-89C6-7EA383203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6059-DD10-47B6-A287-B9A1D7AC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3B4818-C90C-4AD2-8F14-9BE8A65F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DBC886-5241-40A4-B5F3-1F7F3484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5D3F9-ECD5-4D3B-A5DC-F6B4B715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9531E-7013-43FF-AE0B-64D0730E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D0EC43-1FE0-4796-913B-96EE76FE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D7F147-4FF1-45C5-8DDE-328919B9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F97BD0-ED63-47C8-B3C7-48697423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395E86-35D6-453C-9A54-DBC505086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69422-234D-456F-8151-DD354A64F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135E51-9C50-4365-840E-BD703F3D8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391D-819B-4071-9C52-493DEF2FF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27DE85-3764-43A1-B297-FEF3B7A3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F69248-C65E-4DD8-ABB4-2E77EE7B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49DCDE-5ACB-4223-AA44-A43DDFEC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C5FD3E-A311-463F-99AA-3EC11330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5CA7B2-532B-4903-AF4A-81E2932F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FC7D7C-F1B0-460F-9CAB-88A56865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7ED763A-8014-4F0F-A20C-4EC45013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7CF9D01-078A-4721-AF95-5655C733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09F9EB-5BA7-4C9E-9BA3-C5B31A4A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3869D0-5741-4EB1-9CAC-FD07F0CA4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83D1-ECF5-4712-9933-91F1608C7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8AD8B0-3C1B-40DC-BF10-4917E139C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FB8BA-A212-4C34-B2B1-FE3FB34F6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E73E29-DF51-48EC-B73A-CA266FF3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4A992-65F4-4958-8877-C18D06F5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C78CD-E268-4EFF-838B-4659CC27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9B2634-5DD4-4BDA-B95E-5FC0E1EC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1272B-6E12-41D6-A26A-F346DA2A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BDDB7-5467-4699-816C-FE1A841D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8268E-5EB6-4295-8D43-0B03ACDF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38715-D95D-4AA3-80FE-AC386593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3B33-CCCE-4229-942B-6AF1E68D7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1032D-99DE-4F13-A4FD-D006A00E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54A93F-A9CD-470A-92AB-D93D36D97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B56BB-F9AE-421F-B482-598A49B6B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6514FB-01DE-4D85-ADEA-E81C7C14B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6495FC-4CD3-4D35-B7A7-9B38D2A8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994969-0B40-4C49-87A9-40B7820B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68454F-62A7-4E1B-B612-DDC2793A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341716-7032-462E-9817-7782C208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D63F9D-B33C-4FF9-87D7-7DA25EA7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EE98E3-785F-4846-AB34-9AEAE94B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A893-23C7-4092-990C-1ADD0748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BF245C-760A-49E9-AFFE-ECA8C91A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99AB9E-6FDB-4F4D-8DFC-BA3B6D56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6E87F8-DCF1-4A31-8BA8-5119A9F9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7CFE4B-DE6C-4A7E-A92C-75AEEEF2E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99DFF2-7B89-4897-927F-5A79C2BE8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92C80-DA8F-40C9-8203-89723FF0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4D97-E7B0-435A-9865-BA8BEBB1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D543-6CB2-46EA-B61B-BB6BBE46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DF52-9B07-44F8-A57A-C77059BB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AFDB-EA9F-4E3A-8B6D-EA002309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CB48-A59E-4CD9-B1BE-B5359359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BCC5-EBD2-4E25-B3EF-7AA90BF4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D3014-3AEB-45EE-954A-CFC53DC9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992B-D972-46CA-AB06-312F3E39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408DC-792C-4858-9C56-F3C753768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7EAA-D913-4059-9769-36C923FB4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E04A5-7E4F-43F4-9250-AA0FF1DC6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C095B-2A18-46FE-8D45-79376C4B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8A2F7-99F2-4B1C-B6C4-7F62C74C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F51E6-A16D-4E81-8889-D3066B22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8CE83-C8F5-44DF-BEB0-FEAC1BEB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57A1-18DD-48A1-A06A-311F1C62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17018-725D-4368-A920-020073E5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38677-25F4-498F-B0F1-0321F23D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FB179-86D3-4239-8720-7C53F445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08CCC-A8A2-4F7C-B394-9523E632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09AAA-8C8D-4304-8004-2BC22798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6624E-44EA-4654-89F0-0DE95C4B7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B1630-ACC5-4AEB-856A-410DB1E5E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EA86A-E3C2-45D0-B51B-0E9B1AD9E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3C1E8-2A01-46ED-93FF-A841885B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2AAE7-8006-43B4-8707-47D636D9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7801-7A9D-49A3-B79E-D755C51C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946A4-D3AE-428B-BD5B-3B872C6F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F51E2-A038-4BCC-B474-4EE19A3D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B3441-4DFF-46D1-A426-22E0E744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936F4-1132-4CA1-B43A-245778DF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0F277-84FE-43EF-A070-93F0C5A0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EB279-818B-4FB4-A05C-493F5BDF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9E11A-4965-4EB5-81A5-EA6BF283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69726-7C78-4DF9-9ACD-D28826DDE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ACA1B-A99B-40D1-ABF7-23FE1A98B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B0B000-0B8D-4AE4-9DE3-A07129713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98CF-8C0B-455E-A67E-4915FA81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B56499-E182-4516-A9FD-29AF5ECF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98CEBB-B3B6-4ACD-897C-69751DCC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008CB1-3EFE-4F94-BFCA-48FA4575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79803B-AE13-41A3-9266-B0BCC248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0100C6-4C00-47A2-A93A-AB376CEA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01CB96-7EBC-4939-9529-9E1B5D00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DF7936-36F3-455E-9544-0C165EC4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15DF27-3898-49A6-9656-F3F5687E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E105B7-E4A1-4F83-B07D-5AC14FE6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88AD87-6659-41DD-9C26-0B12E2D06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C135-128F-4567-B6A3-15340389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33D090-445F-4033-91B2-C4AE3F252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1FCAE-C6AC-4ED0-B495-F8FEACFDD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4289A-8378-47F3-B783-FDBE0F05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13E25-1E21-460B-AE30-E3AFC92F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0A418-24C3-413A-949A-952CD6FD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C2CEA-1470-4140-9AE9-EE71E27C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5C1FE-B669-49C0-90B7-AC05FBEA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39E99-758C-4DBD-BAE5-FDEBC764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8E2DA-6082-4571-A107-AE93FE26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2D3A8-EA03-409C-83FD-128D8C96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246E-F6AD-40DD-982C-FCA43D77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2648B-D3EC-4FF1-983D-A3A27AA2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345BC-6478-4154-AF2E-424CF37F8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F5A5E-2239-4394-A552-AF7DFCBE4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1B631-2883-4C2C-8B21-22F4E2BA6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B5A52-4614-4FEC-8E13-5BB702F5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5A9CE-9DDC-4428-85BF-48BC7ECC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E44F3-8AF6-4084-B874-E185492D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6A495-BD42-4DC8-8032-85A153EC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E251F-D6BC-4CC5-9657-C7B31657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45F41-4615-4CF2-AEE0-645452E2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3808-8209-4C15-B67A-FF34F6D0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AD7CA-9CC0-4914-8E37-B87A6800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406D8-238A-49F6-9E01-1710054C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34D13-2D45-497C-86CE-EC85D339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28800-6930-498D-82E1-EEC5FAFA4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2C435-BA36-403B-BEB2-0B4B64CFF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433D8-A134-416E-B8A3-143F3519B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B4E7A-A573-4C64-89EF-EDDCE94C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E2CB1-98D8-4DCF-B143-64CE5CF6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BA299-AE35-4073-911D-D8660B4F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C8C6F-4CF6-41BC-BFC8-8502FD8B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9A21-3DE2-4956-9625-B5E07E2F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37846-0385-4691-89DE-56AF4EDF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BC22E-A1C6-4DFC-AA29-F806D87F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1D1AE-D060-4720-AF7A-3A4B411F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5AA3A-2464-420F-B2C7-6F077B50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0FE93-45E0-4224-BF49-29C2F770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98295-A82B-4ADC-8536-EF0A7111F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FF550-B7E6-4BBF-A847-EB9384E34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02F02E-F570-48C5-88E6-79948D9F2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9871E8-0212-435C-88EE-145E26A0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24502-4CB2-4FFE-93B9-5EFD1CD6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7ECB-6E5D-49E9-9598-CBF0EBA65346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3D92-AD16-46BE-89B9-02B13453F83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1422-6DD0-48B9-911A-8A3FB3DA1AD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638B-CDB5-43E3-B158-92D9D6EB4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E342-9C08-4807-ABFC-0175612D7AE1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667E-4ADD-40B9-B740-08C53B5535B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F6EE-3A78-4DA5-8C66-DD4E411AD42B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6421-A89E-4D4A-BD0D-4C38E89A28E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4F92-1BA6-4E16-954F-7E5F4001D09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D14E-E3AD-403F-B7EA-A2693FB5139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7EA1-54F6-43FE-A5D6-0E6C511AB18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6E08-860C-4B7C-BE1F-BE836FD4B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400F-189D-4325-8015-5EFAC585F5C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70D0-7A3B-4B56-98DB-BBDFB32AF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B5AF-4327-481D-BFBB-5C4FBE622D2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1243-EA87-4FEA-B4AA-EEC16867F5E4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2F6F-1C19-41EA-8128-CEA3661BF320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23C5-C5BA-4DCC-ABD3-3A9FE572B25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1A04-F2B4-44CC-9F74-001ED63A5687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7A6E-9625-483C-A1FA-2FEB7276E73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6751-5585-4D56-ABC9-2254797937B2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3FB7-D832-411D-9D89-6CE1C854892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6EE2-8893-4925-A154-73179941DFA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8050-F74D-4433-9BBC-BA9B2A0EB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4AC9-9712-4763-A921-5F728E9A972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99A9DA-FFD6-4654-B0AA-760489FEA861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88DF0-CF3E-40E9-B772-855167B3028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7AAB8C53-857F-435D-836F-AC65A9692D6D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9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3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127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9ADFD-164F-4FEE-91AD-D677DC33E55C}" type="slidenum">
              <a:t>3</a:t>
            </a:fld>
          </a:p>
        </p:txBody>
      </p:sp>
    </p:spTree>
  </p:cSld>
  <p:transition>
    <p:comb dir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7BD898-0F1A-4A46-9D46-DFC14B76BEBB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6ED1578F-DEE4-439D-925E-5C335B3A28F3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6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8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C18E12-4592-4A2B-A1AF-1298773AD80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22B58D4D-1E0E-448F-AC9E-65D0DED009FA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0"/>
                            </p:stCondLst>
                            <p:childTnLst>
                              <p:par>
                                <p:cTn id="2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6000"/>
                            </p:stCondLst>
                            <p:childTnLst>
                              <p:par>
                                <p:cTn id="2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7000"/>
                            </p:stCondLst>
                            <p:childTnLst>
                              <p:par>
                                <p:cTn id="2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8000"/>
                            </p:stCondLst>
                            <p:childTnLst>
                              <p:par>
                                <p:cTn id="3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9000"/>
                            </p:stCondLst>
                            <p:childTnLst>
                              <p:par>
                                <p:cTn id="3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9DC766-F330-4998-B23E-1ADDD7EA456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A8099D76-08B2-4EDB-AC4D-9577E20330DC}" type="datetime1">
              <a:rPr lang="en-US"/>
              <a:t>07/30/26</a:t>
            </a:fld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