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5807E-3289-41F6-B039-61BDB3AEE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5F94A-BFE7-4646-A6ED-82020FFE1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C14CE-3543-4812-895F-15E6A77AB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A3956-1B31-43B2-96D6-EC78E6AD6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B4C93-C5E1-4E18-961F-ABD13035B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369AD-C04E-49C7-8C0E-71F2CA6FC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44C5D-6DB5-4E5B-9BED-87614E040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B5855-0D97-47FD-938A-95E3ABA5A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823A9-F75F-4483-AB8F-925F1F43D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22F10-8E83-4C1E-BF51-BE7995F1D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6FDAB-4349-4001-B128-C91F12B23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47E4A-1783-4083-A087-0E619B3E0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AE93A-2F1F-4EDC-8E91-D80592F996DE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flowChartPrepa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p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flowChartManualIn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flowChartManualOpe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flowChartOffpage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ff-page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flowChartPunchedCar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lowChartPunched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unched 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umming J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flowChar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flowChartCollat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l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Alternat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flowChartSor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flowChartExtra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Ex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flowChartMer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e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tore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prstGeom prst="flowChartMagnetic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equential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gnetic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rect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defined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flowChartInternal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Internal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ulti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Termin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03:09Z</dcterms:created>
  <dc:creator>tb121644</dc:creator>
  <dc:description/>
  <dc:language>en-US</dc:language>
  <cp:lastModifiedBy>tb121644</cp:lastModifiedBy>
  <dcterms:modified xsi:type="dcterms:W3CDTF">2005-05-25T11:15:34Z</dcterms:modified>
  <cp:revision>2</cp:revision>
  <dc:subject/>
  <dc:title>Slide 1</dc:title>
</cp:coreProperties>
</file>