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0762F7D-9A46-4423-B079-A13155A994E3}"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B57E467-55EA-42DE-B1C7-3BA83321000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47194E0-B539-401E-8264-5FD502DD1CA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67310AC-2EF5-45FE-8DB0-17D9BC85289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23B0E19-BD7F-4F7D-A5C9-D539E897A3D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50966FD-B9DA-4E5B-8FD4-EDA425D3B35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B9D453D-C07F-42B9-9E0E-0C2DF2BF9C4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4D7233C-CD00-49DD-B1BE-CFBFB71CB12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2D99F4E-52CF-4806-8820-8796A619541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5CF67D6-DA87-41AC-8B16-70D54E079CC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A98B64E-B3F3-4A05-91A1-DD9F7220C8C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697E440-9434-433A-8000-9E3BA4F7FB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1A164D-CB60-45DB-BFA7-BE5D64164D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4256A76-BBB2-4E39-9992-78AED552F2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0503C5C-72A7-4C5F-A474-D1A64FFC61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6EC3C28-E434-42F9-BBD0-11B4FA27C7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5CE9E22-D635-4733-83DA-8A0798FD28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20083EC-3567-4C82-AFEF-972C8C0B01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C63C419-3B39-4447-96A5-F5076C75B9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2FD9BB7-07BA-4D65-8BA3-9E4737B664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1AFA30E-E489-42CE-9E98-19308576C84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D26E4AC-EDDB-46AF-96BA-994AFF9763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8DF165-8D79-4478-95A0-2B52ECDE9E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0A85A6A-9D37-4C01-9EFB-4673940E72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429877B-184D-48B7-8D05-8766B9EA0C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963D159-5EAB-430B-AD35-1EF740C2CE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E2F1E29-EB04-43FF-AA90-15BBAC5B971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E3858DF-FE78-43EB-95E1-1629D726AC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27831E-9CE7-44EE-B6B6-92236C6323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DD62D1-A854-452F-87EB-54D2E95C09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6F5BF8-23B2-42B0-9AAF-59F822DEE5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DC2AA1-EC61-44F9-AB2F-5605A4EFCF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8F9DD5-A5A9-4F12-B49E-3B0367504B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C0F1F5-9C41-44A6-9CCA-684A24CAF6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0782BF-B01E-4B7F-95D2-BC2854225B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EC347-D6D6-4240-B281-79E26C188A08}"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09719-2CC7-4275-A850-1EFE7F75EF8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8EFA62CE-FE6D-4CA5-BD8B-F81613E49B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FFF7ABA-4CD6-4E1A-B40E-FF984F001CB7}"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BF618F3-6C84-4930-B8FB-15E7CF878031}"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336C084-0F8E-4949-9653-C5C8F2D6E1E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6E6173C-BA3E-4391-9449-DA173DB953CA}"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AF60B3-41FB-42E0-A578-87607EEC4794}"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1B6A7FC-3563-4D96-A4F2-522231961486}"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7445C81-BA86-47BA-91D3-8F75032F70F5}"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4BC2050-DF46-4C46-9A43-12E6A40A4AA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6C536EA-C203-4375-8B00-E209F09F9497}"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24CE0E0-243F-48E9-9E2A-82A121AD34D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70B3EED-595D-4115-9AAF-DF4783EE1918}"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B95EBF5-C14D-4C43-8888-278ACD0129EA}"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322B03D-F3F8-4C55-BAE9-20A0F2C2A2CC}"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09BD1B6-9180-404E-94F3-65DBC1321CB6}"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6447F92-D565-48A2-9577-646751F94D8D}"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EA6456B-9504-4E05-9D97-671AA4A3B065}"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4DEB49C-FBAC-497F-9604-6D88C69D8B0A}"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AE644762-CB5B-4C18-A962-88419D46AFB8}"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BACD3FF1-DE82-4C85-AB5C-1FB3B5449064}"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74B3626-F2E6-4164-BBF4-E947186D405C}"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98561F9-69E6-4968-BC26-763064F03BDA}"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274A14F-03B2-4E4D-9531-DCF4CB1DBBDF}"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E8EEA9B-2491-4997-909C-5F72F863F55D}"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297F59C-1B72-4048-ACE1-AFC13F5A403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DA50A89-2DD2-4774-B839-96D1CF848D0F}"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62C45E1-8151-4823-A8A0-CC9C714519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A794969-622A-498F-BC79-D294656F48FE}"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4C428FA2-D889-4792-AC88-C0AFEEBDA9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E19A4B4-E4EC-4E98-879B-2E7EF6BE29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D41687B-F814-4CA8-849F-8D7E234B1E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446334-A650-44DC-A239-9324EB40D621}"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247BCEF-78E1-44B3-8EDA-BC77017FB9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1B6A4EF-7F26-4796-A892-0E44198A88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1A101D7-D5EF-4547-AE59-6382D0078D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3CC02A1-132D-4078-AA08-17E3E7C12AFF}"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A9EA60F-C7FB-4E65-8F19-4F28054867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9946BA6-D831-4AE5-B5F4-68ED8A4E85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C58488D-B42A-4669-93E5-077AF6F74B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589279-F076-4B63-8B10-4D296EB488E2}"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205BEE2-AE0E-431C-B369-3F07CE10F2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C41EA00-1678-49B3-B0B6-80E4F0214F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DDCED73-2A1E-4527-BB53-CDE4949494F0}"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82913C7-CBEA-465E-91AF-B72020AEA4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E69E0C4-2EA4-4A0D-A2B4-73915DF17E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A1B388D-F9A9-487B-94A9-0A6D9BBFC6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77A4BC8-307F-471F-AA92-7CB04F9615E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C21A9C8-ED59-4F20-B3C6-E7639ACD89E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6E80CD4-2E69-4200-90F0-5CC6E7BCC23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020C1DD-067C-41D4-85E3-B95E8D37914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8A91550-58C7-4948-B5C5-C4903E5CB74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F0C918D-0DB1-48D8-9769-D3814531EFC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EBDC923-F456-407E-B927-FDD6E7A65ED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719539D-928C-41D5-88BA-7CA11004AFA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32A8356-7224-489D-BAA2-4B9AA56C331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46508A6-BC40-43CA-83CA-E203C9A3B35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5F1691-8B1B-4E55-B8A9-B7C13A3938A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F6DD9A-6ADD-4BEC-A41C-8AFB8F1D32E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E07BE94-8FBB-46B7-8951-1BB45074FFB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593FB06-5C14-429C-BEF2-65994693461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7E8E0D2-CB52-49D1-AE3D-21F8DFCC071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5F27B0A-1632-44FA-B891-65D3D939BFC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2A1FA30-D8F6-438D-A344-52B8477A186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64E1ABC-24FD-4DDA-A64A-CFB22AEC8F41}"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8384F9D-E7BA-4EF4-94AD-DF854731204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BC07843-6BF6-4A66-BE97-1F457C66D7C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20D0DA6-C936-42BA-81D6-8C222DBDDEA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A6B8D2D-4B46-4483-A6BB-F0E1BBA090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38908C1-A812-4C6B-BDA0-7D58F3770FF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8B33AFB-4D81-4670-8B8D-9E24C114D80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D8499F-C1AD-49AD-9607-99D61B911CB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788856B-8C0F-4AED-8502-A45018A2DC21}"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26BC4F6-FCEC-4644-9C7B-302BD745993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EF7394A-093D-46B6-850F-6E38B786CA5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EDCECE-CEE8-40B6-9F9E-BEEEC9DCAA3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E0AD991-F9A1-48E1-B159-48FBD83DD79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B31840B-321E-4DDC-A12D-8E7E560DFF27}"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F998DCC-BE0B-4C05-BF2A-C7D425D7DE1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C8D38C0-1503-4E55-91AF-E3AA2F2985C5}"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DE7111C-1AC9-43AA-98D5-E739644940D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0751B3A-54DF-4719-B73D-9C534FBB572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640A0CB-A633-406D-B207-D0EF568B63A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0E774F5-A238-4726-9236-7103E11D88E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0BDCBC9-5B4D-4263-95D3-376B085D14C1}"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B23BB88-7ED5-4A27-B414-754EB44AD50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47FF8B-93A4-49A7-BCAD-120DE835A307}"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6BBD44-1C5C-46E9-B234-29B6CE172426}"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11C8F6C-59F7-4ED8-9CC3-175F01A86086}"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06878D4-5F2C-4D3B-A2AC-5D35B94E2E87}"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685BC32-3C0E-40AF-971E-A1C9327B0EE5}"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E038D8D-4CC7-4804-9E62-3F0EE71BF52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B6EA3C1-F863-4456-88E7-EB1A4EA5B0F9}"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7326D36-EFED-41F4-8847-ECB55333450B}"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9DE1873-FC5F-421F-BCE2-4424A7F89C7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93C5CC-3FA2-4EE9-839B-90D58F4C0476}"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1416005-AE1C-4B21-A7FE-C22767F7D86B}"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0CF0290-1950-4529-9DDB-46EC661D3057}"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62A89B00-632B-47DA-BA43-62E964D3C7CF}"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AF904AD-8F9B-43C5-A3DC-10B9A7FA3D2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72C92E9-3236-4660-B46C-74C4C299C45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C67DCC2-7070-4435-A27A-B8F9693AB021}"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305D41-29A9-4270-968E-A690135DD7A2}"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3976DD1-2C6A-465B-BE4B-27AB078B8B53}"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13876AC-B229-4B4A-9D8E-886A78506183}"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5D3DF6-D77F-4DCE-BCBD-0DA4C277BCD3}"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23FC7ED-8127-4C79-A9EF-6D704083CAF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863635-9F05-4762-B969-2C0C4C90F26B}"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2365B4E-8ED9-4BF5-A8B9-20CBBA0FB8B0}"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4D2A9D1-BDA3-47E9-85AA-614B41898083}"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4D9D8B6E-59BE-40C4-BBEC-17DDB39DA4BF}"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D44D3A1-7672-4B67-80D1-0BD822A27052}"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A886EC-F6CD-4EB7-BCCF-4CE9487FA285}"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57F277F-883E-4A5D-B7C9-CA6168E5E824}"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034EF1A-EFF2-4173-9119-01BD5C64F2E5}"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13A9FE8-E6B3-4E4E-AC5B-31990EAB9939}"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96264D1-B9BA-454E-8371-975201F48342}"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299B5C-86CA-4C69-8769-23E0AE3122B1}"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8AD34D8-9C2E-4112-A04E-7EE5B648493E}"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BEF6EF6-73B4-4667-B737-007EB9FF5A24}"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C51FB4E-C168-4666-AE0F-7DD22B0ECA98}"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8F3D40E-D34E-4BB5-8E0A-D83D4F23E8D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